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10176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1"/>
          </p:nvPr>
        </p:nvSpPr>
        <p:spPr>
          <a:xfrm>
            <a:off x="4049280" y="-5040"/>
            <a:ext cx="3102120" cy="47628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ftr" idx="2"/>
          </p:nvPr>
        </p:nvSpPr>
        <p:spPr>
          <a:xfrm>
            <a:off x="-1440" y="8975880"/>
            <a:ext cx="310176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3"/>
          </p:nvPr>
        </p:nvSpPr>
        <p:spPr>
          <a:xfrm>
            <a:off x="4049280" y="8975880"/>
            <a:ext cx="3102120" cy="4759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fld id="{BFCB26F0-1C3A-4CFB-AF81-7F869D81DA4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935440" y="8997840"/>
            <a:ext cx="12776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en-US" sz="1200" spc="-1" strike="noStrike">
                <a:solidFill>
                  <a:srgbClr val="39536b"/>
                </a:solidFill>
                <a:latin typeface="Arial"/>
              </a:rPr>
              <a:t>Page </a:t>
            </a:r>
            <a:fld id="{77C22184-9590-492B-B473-9F7FB12C0532}" type="slidenum">
              <a:rPr b="0" lang="en-US" sz="12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Img"/>
          </p:nvPr>
        </p:nvSpPr>
        <p:spPr>
          <a:xfrm>
            <a:off x="1222200" y="717120"/>
            <a:ext cx="4703760" cy="3527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ed this slide from the Authorization mod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clarification from Julia on what “participate” mea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 removed the Licensing/Authorization module from the last day, so this part of the intro has been beefed up so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I authorizes individuals as TSP coaches to launch and coach TSP tea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ed this slide from the Authorization mod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clarification from Julia on what “participate” mea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e removed the Licensing/Authorization module from the last day, so this part of the intro has been beefed up som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I authorizes individuals as TSP coaches to launch and coach TSP tea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22200" y="717480"/>
            <a:ext cx="4703760" cy="35276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52560" y="4487400"/>
            <a:ext cx="5245200" cy="4249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8600" bIns="4860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dded this slide from the Authorization modu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ed clarification from Julia on what “participate” mea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2404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0360" y="170964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17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2404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0360" y="4108680"/>
            <a:ext cx="238680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06200" y="890280"/>
            <a:ext cx="74214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6440" y="410868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1736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6440" y="1709640"/>
            <a:ext cx="361764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17360" y="4108680"/>
            <a:ext cx="7413480" cy="219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0800" y="6566040"/>
            <a:ext cx="230724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391356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830928A9-38AD-42FA-8D94-4B6E5643F163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pic>
        <p:nvPicPr>
          <p:cNvPr id="5" name="Picture 7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6" name="Line 8"/>
          <p:cNvSpPr/>
          <p:nvPr/>
        </p:nvSpPr>
        <p:spPr>
          <a:xfrm>
            <a:off x="1004760" y="1460520"/>
            <a:ext cx="7435800" cy="0"/>
          </a:xfrm>
          <a:prstGeom prst="line">
            <a:avLst/>
          </a:prstGeom>
          <a:ln w="28440">
            <a:solidFill>
              <a:srgbClr val="97b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1058760" y="4967280"/>
            <a:ext cx="73137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This material is approved for public release. Distribution is limited by the Software Engineering Institute to attendees.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Sponsored by the U.S. Department of Defense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600" spc="-1" strike="noStrike">
                <a:solidFill>
                  <a:srgbClr val="39536b"/>
                </a:solidFill>
                <a:latin typeface="Arial"/>
              </a:rPr>
              <a:t>2013 by Carnegie Mellon University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4680" y="4680"/>
            <a:ext cx="9129960" cy="684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39536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1017720" y="730080"/>
            <a:ext cx="7413480" cy="0"/>
          </a:xfrm>
          <a:prstGeom prst="line">
            <a:avLst/>
          </a:prstGeom>
          <a:ln w="12600">
            <a:solidFill>
              <a:srgbClr val="3953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910320" y="6567480"/>
            <a:ext cx="115488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6440" bIns="46440" anchor="t">
            <a:spAutoFit/>
          </a:bodyPr>
          <a:p>
            <a:pPr algn="ct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September 2013</a:t>
            </a:r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938880" y="731880"/>
            <a:ext cx="21261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600" rIns="102600" tIns="51480" bIns="5148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39536b"/>
                </a:solidFill>
                <a:latin typeface="Arial"/>
              </a:rPr>
              <a:t>Pittsburgh, PA 15213-3890</a:t>
            </a:r>
            <a:endParaRPr b="0" lang="en-US" sz="1200" spc="-1" strike="noStrike">
              <a:solidFill>
                <a:srgbClr val="39536b"/>
              </a:solidFill>
              <a:latin typeface="Arial"/>
            </a:endParaRPr>
          </a:p>
        </p:txBody>
      </p:sp>
      <p:pic>
        <p:nvPicPr>
          <p:cNvPr id="48" name="Picture 8" descr="Logo-Rebuilt-Color-crop-reduced"/>
          <p:cNvPicPr/>
          <p:nvPr/>
        </p:nvPicPr>
        <p:blipFill>
          <a:blip r:embed="rId2"/>
          <a:stretch/>
        </p:blipFill>
        <p:spPr>
          <a:xfrm>
            <a:off x="17640" y="146160"/>
            <a:ext cx="3979800" cy="54432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9"/>
          <p:cNvSpPr/>
          <p:nvPr/>
        </p:nvSpPr>
        <p:spPr>
          <a:xfrm>
            <a:off x="6215040" y="6564240"/>
            <a:ext cx="29289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t">
            <a:spAutoFit/>
          </a:bodyPr>
          <a:p>
            <a:pPr algn="r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1000" spc="-1" strike="noStrike">
                <a:solidFill>
                  <a:srgbClr val="39536b"/>
                </a:solidFill>
                <a:latin typeface="Arial"/>
              </a:rPr>
              <a:t>TSP Coach Training – Module 4 - </a:t>
            </a:r>
            <a:fld id="{D8664FE2-3643-4161-B9D0-D801264334AA}" type="slidenum">
              <a:rPr b="1" lang="en-US" sz="1000" spc="-1" strike="noStrike">
                <a:solidFill>
                  <a:srgbClr val="39536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0" name="Rectangle 1038"/>
          <p:cNvSpPr/>
          <p:nvPr/>
        </p:nvSpPr>
        <p:spPr>
          <a:xfrm>
            <a:off x="1012680" y="1420920"/>
            <a:ext cx="73152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1" name="Rectangle 1038"/>
          <p:cNvSpPr/>
          <p:nvPr/>
        </p:nvSpPr>
        <p:spPr>
          <a:xfrm>
            <a:off x="1165320" y="1573200"/>
            <a:ext cx="73152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800" spc="-1" strike="noStrike">
                <a:solidFill>
                  <a:srgbClr val="39536b"/>
                </a:solidFill>
                <a:latin typeface="Century Schoolbook"/>
              </a:rPr>
              <a:t>TSP Coach Training</a:t>
            </a:r>
            <a:endParaRPr b="0" lang="en-US" sz="28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br>
              <a:rPr sz="2400"/>
            </a:br>
            <a:r>
              <a:rPr b="0" lang="en-US" sz="4000" spc="-1" strike="noStrike">
                <a:solidFill>
                  <a:srgbClr val="39536b"/>
                </a:solidFill>
                <a:latin typeface="Century Schoolbook"/>
              </a:rPr>
              <a:t>Introduction</a:t>
            </a:r>
            <a:endParaRPr b="0" lang="en-US" sz="40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43080" indent="-343080">
              <a:buClr>
                <a:srgbClr val="39536b"/>
              </a:buClr>
              <a:buFont typeface="Arial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2" marL="343080" indent="-343080">
              <a:buClr>
                <a:srgbClr val="39536b"/>
              </a:buClr>
              <a:buFont typeface="Arial"/>
              <a:buChar char="-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3" marL="343080" indent="-343080">
              <a:buClr>
                <a:srgbClr val="39536b"/>
              </a:buClr>
              <a:buFont typeface="Times New Roman"/>
              <a:buChar char="–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4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5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6" marL="343080" indent="-343080">
              <a:buClr>
                <a:srgbClr val="39536b"/>
              </a:buClr>
              <a:buFont typeface="Times New Roman"/>
              <a:buChar char="•"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M2%20-%20TSP%20Overview/TSP%20overview.ppt" TargetMode="External"/><Relationship Id="rId2" Type="http://schemas.openxmlformats.org/officeDocument/2006/relationships/hyperlink" Target="file:///../M3%20-%20Meeting%201/Launch%20Meeting%201.ppt" TargetMode="External"/><Relationship Id="rId3" Type="http://schemas.openxmlformats.org/officeDocument/2006/relationships/hyperlink" Target="file:///../M4%20-%20Meeting%202/Launch%20Meeting%202%20.ppt" TargetMode="External"/><Relationship Id="rId4" Type="http://schemas.openxmlformats.org/officeDocument/2006/relationships/hyperlink" Target="file:///../M5%20-%20Meeting%203/Launch%20Meeting%203.ppt" TargetMode="Externa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M5%20-%20Meeting%203/Launch%20Meeting%203.ppt" TargetMode="External"/><Relationship Id="rId2" Type="http://schemas.openxmlformats.org/officeDocument/2006/relationships/hyperlink" Target="file:///../M6%20-%20Meeting%204/Launch%20Meeting%204.ppt" TargetMode="External"/><Relationship Id="rId3" Type="http://schemas.openxmlformats.org/officeDocument/2006/relationships/hyperlink" Target="file:///../M7%20-%20Meeting%205/Launch%20Meeting%205.ppt" TargetMode="External"/><Relationship Id="rId4" Type="http://schemas.openxmlformats.org/officeDocument/2006/relationships/hyperlink" Target="file:///../M8%20-%20Meeting%206/Launch%20Meeting%206.ppt" TargetMode="External"/><Relationship Id="rId5" Type="http://schemas.openxmlformats.org/officeDocument/2006/relationships/hyperlink" Target="file:///../M9%20-%20Meeting%207/Launch%20Meeting%207.ppt" TargetMode="Externa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M10%20-%20Meeting%208&amp;9/Launch%20Meetings%208&amp;9.ppt" TargetMode="External"/><Relationship Id="rId2" Type="http://schemas.openxmlformats.org/officeDocument/2006/relationships/hyperlink" Target="file:///../M11%20-%20Other%20Considerations/Other%20Launch%20Considerations.ppt" TargetMode="External"/><Relationship Id="rId3" Type="http://schemas.openxmlformats.org/officeDocument/2006/relationships/hyperlink" Target="file:///../M12%20-%20Coaching%20Individuals%20and%20Teams/Coaching%20Individuals%20and%20Teams.ppt" TargetMode="External"/><Relationship Id="rId4" Type="http://schemas.openxmlformats.org/officeDocument/2006/relationships/hyperlink" Target="file:///../M13%20-%20Group%20Behaviors/Group%20behavior%20models.ppt" TargetMode="External"/><Relationship Id="rId5" Type="http://schemas.openxmlformats.org/officeDocument/2006/relationships/hyperlink" Target="file:///../M14%20-%20TSP%20Roles/TSP%20team%20roles.ppt" TargetMode="External"/><Relationship Id="rId6" Type="http://schemas.openxmlformats.org/officeDocument/2006/relationships/hyperlink" Target="file:///../M15%20-%20Tracking%20and%20Reporting/Running%20Track%20and%20Report.ppt" TargetMode="External"/><Relationship Id="rId7" Type="http://schemas.openxmlformats.org/officeDocument/2006/relationships/hyperlink" Target="file:///../M16%20-%20Maintaining%20Baseline%20%20Plan/Running%20Maintaining%20Plan.ppt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../M17%20-%20Quality%20Plan/Running%20Maintaining%20Quality.ppt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Use of TSP Material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17360" y="1493640"/>
            <a:ext cx="741348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SP materials can be used only with organizations that have a license agreement with the SEI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Only SEI certified/provisional associate coaches and coaches can use the licensed TSP materials to coach teams.  For more information please reference your organization’s license agreement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ome licensed material can be tailored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cripts, forms, specification, checklists, and guideline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sociated instructions and standard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29760" indent="-20376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he other licensed material, printed or electronic, cannot be changed unless agreed to in writing by the SEI; however, you may add supplementary materials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Questions on licensing and authorization should be sent to: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partner@clearmodel.co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Top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topics incl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verview of the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unch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launch consider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unning the project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rting a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tatus and direction of the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summa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tructure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 typical course day will incl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ectur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ole play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e last day will also include an examination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chedule:  Day 1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9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TSP Overview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1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Launch Meeting 1 - Business Need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1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3"/>
              </a:rPr>
              <a:t>Launch Meeting 2 - Roles and Goa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4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4"/>
              </a:rPr>
              <a:t>Launch Meeting 3 - Strategy and Proce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d of day 1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chedule:  Day 2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Debrief exercise 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9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Launch Meeting 4 - Overall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9:4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Meeting 4 </a:t>
            </a: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(continued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aunch Meeting 4 </a:t>
            </a: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(continued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3"/>
              </a:rPr>
              <a:t>Launch Meeting 5 - Quality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4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4"/>
              </a:rPr>
              <a:t>Launch Meeting 6 - Bottom-up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5"/>
              </a:rPr>
              <a:t>Launch Meeting 7 - Risk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d of day 2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chedule:  Day 3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17360" y="1563480"/>
            <a:ext cx="741348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Launch Meetings 8 and 9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1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eting 8/9 exercise presen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1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2"/>
              </a:rPr>
              <a:t>Other Launch Considerations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3"/>
              </a:rPr>
              <a:t>Coaching Individuals and Tea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:1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4"/>
              </a:rPr>
              <a:t>Group Behavior Model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5"/>
              </a:rPr>
              <a:t>TSP Rol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4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6"/>
              </a:rPr>
              <a:t>Tracking and Report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7"/>
              </a:rPr>
              <a:t>Maintaining the Baselin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: Maintaining the Baseline Pla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d of day 3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chedule:  Day 4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9c2108"/>
                </a:solidFill>
                <a:uFillTx/>
                <a:latin typeface="Arial"/>
                <a:hlinkClick r:id="rId1"/>
              </a:rPr>
              <a:t>Maintaining a Quality Focu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1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aintaining a Quality Focus </a:t>
            </a: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(continued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unch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the Te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:4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: Coaching the Team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2:4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ing the Team Leader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3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ercise: Coaching the Team Leader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4:15  PM 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 u="sng">
                <a:solidFill>
                  <a:srgbClr val="39536b"/>
                </a:solidFill>
                <a:uFillTx/>
                <a:latin typeface="Arial"/>
              </a:rPr>
              <a:t>Post-Launch Coaching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5:1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d of day 4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Schedule:  Day 5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ntinental breakfast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8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ing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9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ath to Certific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15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rea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0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Summar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1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 ex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2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unch </a:t>
            </a:r>
            <a:r>
              <a:rPr b="0" lang="en-US" sz="1600" spc="-1" strike="noStrike">
                <a:solidFill>
                  <a:srgbClr val="39536b"/>
                </a:solidFill>
                <a:latin typeface="Arial"/>
              </a:rPr>
              <a:t>(as you finish)</a:t>
            </a:r>
            <a:endParaRPr b="0" lang="en-US" sz="16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:0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lass Feedback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r" pos="749160"/>
                <a:tab algn="l" pos="91440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1:30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PM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nd of clas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ogistic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stroo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elephon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Messag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Lecture Overview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Introductions and expec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General course inform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objectiv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structu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schedul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Logistic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Introductions and Expectation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o we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ob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Who you ar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name and organization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job 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urse expectation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experiences with the PSP and the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 or Associate Coach Candidate?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Prerequisit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17720" y="1481040"/>
            <a:ext cx="782136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Common Prerequisit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signed the Code of Professional Conduct for SEI Servic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signed the SEI Certification Agreement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sponsored by a SEI Partner of the TSP Product Suite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completed pre-reading for the course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ssociate Coach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complete the PSP Fundamentals or TSP Team Member Training 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pass the course entrance exam or the SEI-Certified PSP Developer exam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Coach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passed the SEI-Certified PSP Developer exam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Helpful background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 basic understanding of software engineering processes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 working knowledge of project management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a working knowledge of software quality management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  <a:p>
            <a:pPr lvl="1" marL="319680" indent="-197640">
              <a:lnSpc>
                <a:spcPct val="90000"/>
              </a:lnSpc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1900" spc="-1" strike="noStrike">
                <a:solidFill>
                  <a:srgbClr val="39536b"/>
                </a:solidFill>
                <a:latin typeface="Arial"/>
              </a:rPr>
              <a:t>the ability to work effectively in a team</a:t>
            </a:r>
            <a:endParaRPr b="0" lang="en-US" sz="19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Course Objectives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y the end of this course, you should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rationale and conceptual foundations of the TSP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able to set up and conduct a TSP launch, relaunch, checkpoint, and postmorte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recognize and be able to deal effectively with common problems that occur in TSP launche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be able to coach a TSP team between launches, checkpoints, and postmortems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the TSP introduction strategy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understand role and responsibilities within the TSP Mentoring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06560" y="890280"/>
            <a:ext cx="813744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Associate Coach Certific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course is one of the requirements for becoming an SEI-Certified TSP Associate Co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requirements incl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completion of the examination on the last day of this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completion of the TSP Associate Coach Observation Pha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Associate Coaches are certified for a period of one-year, starting with the successful completion of the observation phase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2800" spc="-1" strike="noStrike">
                <a:solidFill>
                  <a:srgbClr val="9c2108"/>
                </a:solidFill>
                <a:latin typeface="Arial"/>
              </a:rPr>
              <a:t>Maintaining Associate Coach Certification</a:t>
            </a:r>
            <a:endParaRPr b="1" lang="en-US" sz="28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17360" y="1481040"/>
            <a:ext cx="77324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maintain certification, coaches mu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ead a TSP (re)launch within the one-year certification perio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ubmit data for one complete TSP cycle [(re)launch, checkpoint, and postmortem] to the SEI from the teams that are being coach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cept and use upgraded materi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 sponsored by an SEI Partner for the TSP Product Sui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ssociate Coaches who allow their certification to lapse will have to redo the associate coach observation phase.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TSP Coach Certific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17360" y="1709640"/>
            <a:ext cx="741348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This course is one of the requirements for becoming an SEI-Certified TSP Coach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Other requirements includ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completion of the examination on the last day of this course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completion of the TSP Coach Mentoring Progr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successful completion of the SEI-Certified TSP Coach exam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200" spc="-1" strike="noStrike">
                <a:solidFill>
                  <a:srgbClr val="39536b"/>
                </a:solidFill>
                <a:latin typeface="Arial"/>
              </a:rPr>
              <a:t>Coaches are certified for a two-year period, starting with the successful completion of the certification exam.</a:t>
            </a: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2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06200" y="890280"/>
            <a:ext cx="7421400" cy="5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1" lang="en-US" sz="3600" spc="-1" strike="noStrike">
                <a:solidFill>
                  <a:srgbClr val="9c2108"/>
                </a:solidFill>
                <a:latin typeface="Arial"/>
              </a:rPr>
              <a:t>Maintaining Certification</a:t>
            </a:r>
            <a:endParaRPr b="1" lang="en-US" sz="3600" spc="-1" strike="noStrike">
              <a:solidFill>
                <a:srgbClr val="9c2108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17360" y="1481040"/>
            <a:ext cx="7732440" cy="459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To maintain certification, coaches must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lead a TSP (re)launch within the two-year certification perio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submit data for one complete TSP cycle [(re)launch, checkpoint, and postmortem] to the SEI from the teams that are being coached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accept and use upgraded materials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 sponsored by an SEI Partner for the TSP Product Suite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 lvl="1" marL="336600" indent="-208080">
              <a:buClr>
                <a:srgbClr val="39536b"/>
              </a:buClr>
              <a:buFont typeface="Arial"/>
              <a:buChar char="•"/>
              <a:tabLst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be an SEI-Certified PSP Developer in good standing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  <a:p>
            <a:pPr>
              <a:tabLst>
                <a:tab algn="l" pos="0"/>
                <a:tab algn="l" pos="811080"/>
                <a:tab algn="l" pos="1622520"/>
                <a:tab algn="l" pos="2433600"/>
                <a:tab algn="l" pos="3244680"/>
                <a:tab algn="l" pos="4056120"/>
                <a:tab algn="l" pos="4867200"/>
                <a:tab algn="l" pos="5678640"/>
                <a:tab algn="l" pos="6489720"/>
                <a:tab algn="l" pos="7300800"/>
                <a:tab algn="l" pos="8112240"/>
                <a:tab algn="l" pos="8923320"/>
                <a:tab algn="l" pos="9734400"/>
                <a:tab algn="l" pos="10545840"/>
              </a:tabLst>
            </a:pPr>
            <a:r>
              <a:rPr b="0" lang="en-US" sz="2000" spc="-1" strike="noStrike">
                <a:solidFill>
                  <a:srgbClr val="39536b"/>
                </a:solidFill>
                <a:latin typeface="Arial"/>
              </a:rPr>
              <a:t>Coaches who allow their certification to lapse will have to retake and pass the certification exam</a:t>
            </a:r>
            <a:endParaRPr b="0" lang="en-US" sz="2000" spc="-1" strike="noStrike">
              <a:solidFill>
                <a:srgbClr val="39536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15:45:23Z</dcterms:created>
  <dc:creator>Stacy Mitchell</dc:creator>
  <dc:description/>
  <cp:keywords/>
  <dc:language>en-US</dc:language>
  <cp:lastModifiedBy>wrn_loc_adm</cp:lastModifiedBy>
  <cp:lastPrinted>2000-12-21T16:04:54Z</cp:lastPrinted>
  <dcterms:modified xsi:type="dcterms:W3CDTF">2018-09-06T01:11:22Z</dcterms:modified>
  <cp:revision>207</cp:revision>
  <dc:subject/>
  <dc:title>No Slide Title</dc:title>
</cp:coreProperties>
</file>